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A069-F415-4210-91B3-84DD3D1C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2F3-28BD-4D53-9353-0972D4E0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40A-5224-463A-B185-2BCCBEE6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C2F-8EB7-45A4-82DB-21A94F84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C0C4-6063-42FF-84E8-10FDA28D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BE0-E906-404B-A9ED-B4821B8E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C4E-272E-4200-A474-354450D9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5AB-BA6E-49AC-B77A-601FBF65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DFC5-F2DE-4777-BC90-7D224748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12B-AA79-4979-9841-A5DCD0DA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CAC4-8393-4B9C-8E79-201F0398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EDB-FCFF-4701-BA70-3AEF7677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5697-134D-40CD-BDEF-6FC47B787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000000"/>
                </a:solidFill>
                <a:latin typeface="Tahoma"/>
              </a:rPr>
              <a:t>Planet Eart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743200"/>
            <a:ext cx="464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ory of formation and the evolution of microbial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52578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s get it on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2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ller-urey" descr="L'expérience de Stanley Miller"/>
          <p:cNvPicPr/>
          <p:nvPr/>
        </p:nvPicPr>
        <p:blipFill>
          <a:blip r:embed="rId1"/>
          <a:stretch/>
        </p:blipFill>
        <p:spPr>
          <a:xfrm>
            <a:off x="6172200" y="1219320"/>
            <a:ext cx="25257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1143000"/>
            <a:ext cx="81532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Early atmospheric gases from volcanoes were carbon dioxide, carbon monoxide, water vapour (i.e. steam) and methane -  but no oxygen.  A hot humid and violent p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609480"/>
            <a:ext cx="86104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Earth has a solid crust on a molten liquid c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The crust is segmented into floating continental p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The molten core drove continental drift in a process called tecto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latesovertime" descr=""/>
          <p:cNvPicPr/>
          <p:nvPr/>
        </p:nvPicPr>
        <p:blipFill>
          <a:blip r:embed="rId1"/>
          <a:stretch/>
        </p:blipFill>
        <p:spPr>
          <a:xfrm>
            <a:off x="1828800" y="0"/>
            <a:ext cx="550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990720"/>
            <a:ext cx="81532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As the Earth cooled to below 100 degree centigrade, water vapour from volcanoes probably condensed out to form oce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Early Earth life may have started without oxygen, in the seas – algae over 3,500 thousand years (about 3.5 billion years) ago – that is, life had already started by 30% of the current age of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19051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romatol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nostocsmall" descr=""/>
          <p:cNvPicPr/>
          <p:nvPr/>
        </p:nvPicPr>
        <p:blipFill>
          <a:blip r:embed="rId1"/>
          <a:stretch/>
        </p:blipFill>
        <p:spPr>
          <a:xfrm>
            <a:off x="4572000" y="990720"/>
            <a:ext cx="389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85800"/>
            <a:ext cx="8153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Photons from the Sun are thought to have provided the energy for water vapour to split into oxygen and hydrogen leading to oxygen-feeding life forms about 2 thousand million years 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457200"/>
            <a:ext cx="7620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The molten core causes a magnetic field around Earth which protects Earth from radiation and allowed the atmosphere to develop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3" descr=""/>
          <p:cNvPicPr/>
          <p:nvPr/>
        </p:nvPicPr>
        <p:blipFill>
          <a:blip r:embed="rId1"/>
          <a:stretch/>
        </p:blipFill>
        <p:spPr>
          <a:xfrm>
            <a:off x="3505320" y="2209680"/>
            <a:ext cx="371448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981080"/>
            <a:ext cx="723888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Starting about 500 million years ago, the oceans became steady-state chemical sources of lif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Two-thirds of the Earth is covered by the oc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The sea floor spreads and continents drift on their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57200"/>
            <a:ext cx="647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ahoma"/>
              </a:rPr>
              <a:t>Planet Earth - the la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ahoma"/>
              </a:rPr>
              <a:t>500 million y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cean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2286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ahoma"/>
              </a:rPr>
              <a:t>Planet Earth - the la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ahoma"/>
              </a:rPr>
              <a:t>150,000 y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828800"/>
            <a:ext cx="8686800" cy="48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ahoma"/>
              </a:rPr>
              <a:t>Dramatic climate changes have occurred from full Ice Ages and glacial coverage to non-glacial warm peri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ahoma"/>
              </a:rPr>
              <a:t>Transitions from Ice Age to warm periods have occurred in less than 10,000 years and we do not know the reas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Earth" descr=""/>
          <p:cNvPicPr/>
          <p:nvPr/>
        </p:nvPicPr>
        <p:blipFill>
          <a:blip r:embed="rId1"/>
          <a:stretch/>
        </p:blipFill>
        <p:spPr>
          <a:xfrm>
            <a:off x="1523880" y="365040"/>
            <a:ext cx="63248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ceage01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68580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LastIceAge_Planet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38188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1066680"/>
            <a:ext cx="7924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ahoma"/>
              </a:rPr>
              <a:t>Humans have expanded across the planet since the last Ice Age, over the last 20,000 years, taking advantage of the highly favourable period between Ice 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457200"/>
            <a:ext cx="3429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ley Mi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I. Opa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.B.S. Hald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old U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iller-urey" descr="L'expérience de Stanley Miller"/>
          <p:cNvPicPr/>
          <p:nvPr/>
        </p:nvPicPr>
        <p:blipFill>
          <a:blip r:embed="rId1"/>
          <a:stretch/>
        </p:blipFill>
        <p:spPr>
          <a:xfrm>
            <a:off x="4419720" y="304920"/>
            <a:ext cx="3552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447920"/>
            <a:ext cx="80010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ssential difference between life and non-life is replication. There are other differences, but this is the essential on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ley Mi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581040"/>
            <a:ext cx="8001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Solar nebula accreted to form the solar syst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Omega_nebula_hres" descr=""/>
          <p:cNvPicPr/>
          <p:nvPr/>
        </p:nvPicPr>
        <p:blipFill>
          <a:blip r:embed="rId1"/>
          <a:stretch/>
        </p:blipFill>
        <p:spPr>
          <a:xfrm>
            <a:off x="4114800" y="2209680"/>
            <a:ext cx="4411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457200"/>
            <a:ext cx="7543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Earth accreted (probably from solar nebula) about 4,600  million (i.e. 4.6 billion) years ago due to electromagnetic and gravitational forces – self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lanet-hunting-solar-system" descr=""/>
          <p:cNvPicPr/>
          <p:nvPr/>
        </p:nvPicPr>
        <p:blipFill>
          <a:blip r:embed="rId1"/>
          <a:stretch/>
        </p:blipFill>
        <p:spPr>
          <a:xfrm>
            <a:off x="2125800" y="380880"/>
            <a:ext cx="48924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533520"/>
            <a:ext cx="85345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Earth is the third planet out from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Diameter of 12,776 kilomet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Geologic record begins 3,900 million (3.9 billion) years 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water_for_the_rock_01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117680" cy="5943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609480"/>
            <a:ext cx="3581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Early Earth, over 4 billion years ago, was molten and meteorites impacted the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838080"/>
            <a:ext cx="4343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Lighter liquids floated to the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Heavier liquids sank to core, such as iron and nick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truct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4469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1371600"/>
            <a:ext cx="3733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Lighter liquids gassed out of volcanoes and formed early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7640" y="5486400"/>
            <a:ext cx="809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ahoma"/>
              </a:rPr>
              <a:t>Stable crust formed at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ahoma"/>
              </a:rPr>
              <a:t>Planet Earth -  0 to 3.5 billion yea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nfovolcano-eruption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287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9:34:49Z</dcterms:created>
  <dc:creator>Bradley-Bourbonnais Community</dc:creator>
  <dc:description/>
  <dc:language>en-US</dc:language>
  <cp:lastModifiedBy>Bradley-Bourbonnais Community</cp:lastModifiedBy>
  <dcterms:modified xsi:type="dcterms:W3CDTF">2004-04-15T16:00:13Z</dcterms:modified>
  <cp:revision>8</cp:revision>
  <dc:subject/>
  <dc:title>Planet Earth</dc:title>
</cp:coreProperties>
</file>